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D00-3864-417F-BAA3-AFD686F4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A24-F5ED-451C-B0F5-28CD8F8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A08-BA8F-46E4-A356-FE94A674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F8A-76A1-4D20-A948-D0AFE969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D9F-2047-4946-9AF9-AE43D68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BB6-FF58-48C7-A4D2-84A4BC7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6F2-DD6F-44F7-A1A8-CE171A1D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009-DD84-4112-8215-1AB6F0A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D75-E760-4584-A670-0E000B5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052-713A-4B82-BC39-D6FD03C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BAE-6EC8-4B0F-863A-77C995A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2F8-9CFB-4DC4-B8CB-E0842FB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A00A-ABD0-48EE-9D55-E8E622387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189000" y="-480960"/>
            <a:ext cx="1914480" cy="5491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09680" y="457200"/>
            <a:ext cx="6248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Illegally accessing or without authorization computers, accounts, equipment or networks, or attempting to crack the security measures of anothe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051youngr\Local Settings\Temporary Internet Files\Content.IE5\04L3D2FT\MCj04042610000[1].wmf"/>
          <p:cNvPicPr/>
          <p:nvPr/>
        </p:nvPicPr>
        <p:blipFill>
          <a:blip r:embed="rId2"/>
          <a:stretch/>
        </p:blipFill>
        <p:spPr>
          <a:xfrm>
            <a:off x="228600" y="4724280"/>
            <a:ext cx="1838160" cy="1797120"/>
          </a:xfrm>
          <a:prstGeom prst="rect">
            <a:avLst/>
          </a:prstGeom>
          <a:ln w="0">
            <a:noFill/>
          </a:ln>
        </p:spPr>
      </p:pic>
      <p:sp>
        <p:nvSpPr>
          <p:cNvPr id="44" name="Hexagon 7"/>
          <p:cNvSpPr/>
          <p:nvPr/>
        </p:nvSpPr>
        <p:spPr>
          <a:xfrm>
            <a:off x="3352680" y="3505320"/>
            <a:ext cx="4800600" cy="26668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ack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the computer, he lost all of his privileges for the rest of the schoo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04:50Z</dcterms:created>
  <dc:creator>Administrator</dc:creator>
  <dc:description/>
  <dc:language>en-US</dc:language>
  <cp:lastModifiedBy>Administrator</cp:lastModifiedBy>
  <dcterms:modified xsi:type="dcterms:W3CDTF">2009-03-13T17:14:50Z</dcterms:modified>
  <cp:revision>1</cp:revision>
  <dc:subject/>
  <dc:title>Slide 1</dc:title>
</cp:coreProperties>
</file>